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EEA3-60D7-4343-B79A-4867EADE0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C97E-CD07-43D4-8A9D-DE07673C0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7F05-D9C8-4A90-92A8-EC2C6220E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D5D7-E7ED-4027-A70F-C8EBC6B03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1750-5185-4131-9976-8C6E5283A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0972-B23C-4B60-B4EF-E48823252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B44B-335B-4361-9A81-52E1DA502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82B9-399E-400D-96BF-D8D9B5217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5ED4-22A5-454E-BFC4-5744430AF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99AE-6853-48CA-BB3D-B2999BF6C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69C5-8CAB-4F92-B0DD-DA91FB5CA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9B23-E2EC-469B-A6AC-0429F3D96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21678-06C5-4D04-A6E2-470E0236F0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freeplaymusic.com/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eb.mit.edu/invent/iow/wakefield.html" TargetMode="External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914400" y="609480"/>
            <a:ext cx="6705720" cy="472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Berlin Sans FB Demi"/>
              </a:rPr>
              <a:t>Chocolat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Berlin Sans FB Demi"/>
              <a:ea typeface="Berlin Sans FB Dem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Berlin Sans FB Demi"/>
              </a:rPr>
              <a:t>Chip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Berlin Sans FB Demi"/>
              <a:ea typeface="Berlin Sans FB Dem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Berlin Sans FB Demi"/>
              </a:rPr>
              <a:t>Cooki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Berlin Sans FB Demi"/>
              <a:ea typeface="Berlin Sans FB Demi"/>
            </a:endParaRPr>
          </a:p>
        </p:txBody>
      </p:sp>
      <p:sp>
        <p:nvSpPr>
          <p:cNvPr id="43" name=""/>
          <p:cNvSpPr/>
          <p:nvPr/>
        </p:nvSpPr>
        <p:spPr>
          <a:xfrm>
            <a:off x="6553080" y="4876920"/>
            <a:ext cx="25909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rlin Sans FB"/>
              </a:rPr>
              <a:t>Claire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rlin Sans FB"/>
              </a:rPr>
              <a:t>December 7,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rlin Sans FB"/>
              </a:rPr>
              <a:t>Per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rlin Sans FB"/>
              </a:rPr>
              <a:t>Computer#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5867280"/>
            <a:ext cx="58672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rlin Sans FB"/>
              </a:rPr>
              <a:t>Free Play Music,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Berlin Sans FB"/>
              </a:rPr>
              <a:t> Purple punch, </a:t>
            </a:r>
            <a:r>
              <a:rPr b="0" lang="en-US" sz="1800" spc="-1" strike="noStrike">
                <a:solidFill>
                  <a:srgbClr val="000000"/>
                </a:solidFill>
                <a:latin typeface="Berlin Sans FB"/>
              </a:rPr>
              <a:t>December 8, 2011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freeplaymus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934320" y="24382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228600" y="1981080"/>
            <a:ext cx="2133720" cy="1598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7543800" y="304920"/>
            <a:ext cx="1219320" cy="11318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57200" y="51055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rlin Sans FB"/>
              </a:rPr>
              <a:t>Invented By: Ruth  Wakefi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095880" y="2590920"/>
            <a:ext cx="2590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Wakefield"/>
          <p:cNvPicPr/>
          <p:nvPr/>
        </p:nvPicPr>
        <p:blipFill>
          <a:blip r:embed="rId1"/>
          <a:stretch/>
        </p:blipFill>
        <p:spPr>
          <a:xfrm>
            <a:off x="5486400" y="152280"/>
            <a:ext cx="3362400" cy="4496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562720" y="4648320"/>
            <a:ext cx="33526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 mit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hocolate chip cookie 12/1/201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eb.mit.edu/invent/iow/wakefield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380880" y="380880"/>
            <a:ext cx="3856320" cy="28101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676520" y="34290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533520" y="3780000"/>
            <a:ext cx="4724280" cy="2773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295280" y="655308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647712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rlin Sans FB"/>
              </a:rPr>
              <a:t>cli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50000">
              <a:srgbClr val="a603ab"/>
            </a:gs>
            <a:gs pos="100000">
              <a:srgbClr val="a603a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vention: Chocolate Chip Cook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okies had semi sweet chocolate in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okies Ruth made became very pop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stle got a better idea in 1939,to offer  Nestle Toll House  real semi sweet chocolate morse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: Ruth Wakefi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th graduated from Framingham state Normal schoo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 worked as a dietitian and food lectu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th and her husband purchased a cape cod style home, halfway between Boston and New Bedf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of Ruth favorite cookies was butter cook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th and her husband made their house into Toll House In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th got her cookie recipe published in Bos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th had a cook book called “Ruth Wakefield’s recipes: Tied and 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15:28:39Z</dcterms:created>
  <dc:creator>install</dc:creator>
  <dc:description/>
  <dc:language>en-US</dc:language>
  <cp:lastModifiedBy>install</cp:lastModifiedBy>
  <dcterms:modified xsi:type="dcterms:W3CDTF">2011-12-16T15:30:15Z</dcterms:modified>
  <cp:revision>9</cp:revision>
  <dc:subject/>
  <dc:title>Slide 1</dc:title>
</cp:coreProperties>
</file>